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6D51-7858-4929-BAF0-82685E1D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007D-0A4A-4913-91C3-42A5100D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16D-5233-4EDA-A30D-851E7E3D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8B7-E288-47A5-ADA6-1778AF8E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08-8CA2-4457-A9AA-F2D7E9D5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39E-459F-4260-A57F-6E0B45FD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E44-FD52-4649-9B7B-86C5C13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BB5-51DF-45DA-AAD6-BBB91401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D0F-6B76-4672-A310-432599D3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7CB-60CC-4F17-ACD3-9183C6E1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F7C-6ED6-40BD-9796-E0A63808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2BD-C9ED-4DB6-B1AC-C600B78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0BE-7230-4518-A88F-0B16C9BC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BC1-043D-4F88-8E4C-671AE59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75C3-52C3-4CCA-9B13-C93B5F48AFE3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Бета-лактамски антибио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бета-лактамске антибиотике спадај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ицил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фалоспор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нобактами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рбипене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1214280" y="1785960"/>
          <a:ext cx="68979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85960"/>
                    <a:ext cx="68979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ела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риродни пеницилини Г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бензилпеницилин) и В (феноксиметилпеницилин). Они су јако активни против грам-позитивних и грам-негативних кока, али их бета-лактамаза лако разлаж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аза-резистентни пеницилин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нафцилин, оксацилин, клоксацилин, диклоксацилин). Они имају мању јачину дејства од прве групе, али делују и на резистентне соје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широк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ампицилин, амоксицилин, бакампицилин). Они делују и на грам-негативне бактерије, али их пеницилиназа инактиви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проширен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карбеницилин, тикарцилин, азлоцилин, мезлоцилин, пиперацилин). Они делују и на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roteu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Enterobacter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lebsiell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-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епарати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500120"/>
          <a:ext cx="8358120" cy="4581720"/>
        </p:xfrm>
        <a:graphic>
          <a:graphicData uri="http://schemas.openxmlformats.org/drawingml/2006/table">
            <a:tbl>
              <a:tblPr/>
              <a:tblGrid>
                <a:gridCol w="2500560"/>
                <a:gridCol w="2428560"/>
                <a:gridCol w="3429000"/>
              </a:tblGrid>
              <a:tr h="60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ЕНТЕ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20.000.000 ИЈ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ка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0.000 ИЈ/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нзат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00.000 ИЈ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,5 г/6 часова и.в.,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ф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 и. м., и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п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- 1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12 г (подељено у четири дозе) и.м.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окс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8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бен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 г/6 часова и.м.,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кар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0- 300 мг/кг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ло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ипер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жељена дејства пен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јчешће нежељено дејство је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алергиј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ницилине. Она може бити по било ком од 4 тип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лергијских реакција, али је најчешћи први тип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филактичка реакциј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мпицилин у 5% болесника 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макулопапуларн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ра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који не представља алергијску реакциј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ратекална примена пеницилина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нтраиндикована јер у већим концентрација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конвулз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делује као антагонист глици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ГАБА-е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д примене већих доза пеницилина Г интравенск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гућа је поја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натр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кал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зависно од тога да ли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имењени препарат у виду соли натријума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ијум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ЕЗБЕД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ХОДНОСТ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ДИСАЈНИХ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УТ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ПОСТАВИТИ У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ЕЖЕ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ОЛОЖА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ПОДИЋИ НОГ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КО ЈЕ БЕЗ СВЕСТИ ИЛИ ПОВРАЋ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ДА Г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ЕБА ПОСТАВИТИ У „КОМ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ЛОЖАЈ“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ИНТРАМУСКУЛАРНА ИЊЕКЦИЈА НЕРАЗБЛАЖЕНОГ </a:t>
            </a:r>
            <a:r>
              <a:rPr b="1" lang="sr-CS" sz="2000" spc="-1" strike="noStrike" u="sng">
                <a:solidFill>
                  <a:srgbClr val="c00000"/>
                </a:solidFill>
                <a:uFillTx/>
                <a:latin typeface="Comic Sans MS"/>
              </a:rPr>
              <a:t>АДРЕНАЛИН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1:1000, тј.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ДРАСЛИ И ДЕЦА СТАРИЈА ОД 12 ГОДИНА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2 ДО 0,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2 ДО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А МЛАЂА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ОДИН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l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g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МАКСИМАЛНО 0,3 ml (0,3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ОД 6 ДО 12 ГОДИН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 ДО МАКСИМАЛНО 0,1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 (0,15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МЛАЂЕ ОД 6 ГОД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ЊЕКЦИЈА АДРЕНАЛИНА СЕ МОЖЕ ПОНАВЉАТИ НА ОКО 10 МИНУТА, У ЗАВИСНОСТИ ОД КРВНОГ ПРИТИСКА, ПУЛСА И ДИСАЊА ПАЦИЈЕ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АДРЕНАЛИН ИНТРАВЕНСКИ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ИМЕНИТИ САМО АКО НИЈЕ МОГУЋА ИНТРАМУСКУЛАРНА ПРИМЕНА, АКО ПОСТОЈЕ УСЛОВИ ДА СЕ ПАЦИЈЕНТ МОЖЕ ПАЖЉИВО ПРАТИТИ И АКО ЈЕ ОСОБА КОЈА ПРИМЕЊУЈЕ АДРЕНАЛИН ИСКУС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АДРЕНАЛИН ЗА ИНТРАВЕНСКУ ПРИМЕНУ </a:t>
            </a: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МОРА БИТИ РАЗБЛАЖЕН 1:10,000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. ДОЗЕ АДРЕНАЛИНА ИНТРАВЕНС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ОДРАСЛИ:  0,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ЦА: 0,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КИСЕОНИ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ЕКО МА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НАЗАЛНОГ КАТЕТ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28% КИСЕОН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4-8 ЛИТАРА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У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ИЗИОЛОШКИ РАСТВО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РАВЕНСКИ, 5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РАСЛ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МА, А 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ЛОРОПИРАМИН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PEN®)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ИНТРАМУСКУЛАРН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РАСЛИМ ПАЦИЈЕНТИМА, ДЕЦИ ОД 6-12  ГОДИНА 5-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ОД 1 - 5 ГОДИНА 2,5-5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ИСПОД 1 ГОДИНЕ СТАРОСТИ ТРЕБА ДАТИ 250 МИКРОГРАМА ПО КИЛОГРАМУ ТЕЛЕСНЕ ТЕЖИ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ИДРОКОРТИЗО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ХИДРОКОРТИЗОН®) ПРИМЕНИТИ ИНТРАМУСКУЛАРНО ИЛИ СПОРО ИНТРАВЕН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ОДРАСЛИ И ДЕЦА СТАРИЈА ОД 12 ГОДИНА, 2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ДО 12 ГОДИНА, 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МЕСЕЦИ ДО 6 ГОДИНА, 5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МЛАЂА ОД 6 МЕСЕЦИ, 2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20718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горије пацијената којима пре инвазивних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ција у стоматологији треба 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тибиотиску профилаксу с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раније прележали инфективни бактеријски ендокардитис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штачким валвул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уматско обољење срца у прошл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урођеним аномалиј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лапс митралне валвуле са митрал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суфицијенциј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уство интравенских или интраартеријск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тер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у имуносупресиј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нтрикуло-перитонеалним 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нтрикуло-атријалним шантом збо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дроцефалус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још неке категориј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4287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ндардно у профилакси треба дати одраслом пацијенту 2 грама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амоксицили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ално (деца 50 мг/кг) један сат пре операциј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треба дати клиндамицин 600 мг орално (деца 20 мг/кг) један сат пре операције, или азитромицин 500 мг (деца 15 мг/кг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Када дати антибиоти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ке денталне инфекције (пулпитис, периапикални периодонтитис, локализовани дентоалвеоларни апсцес, гингивитис изазван плаком) не треба лечити антибиотицима, већ интервенцијама као што је инцизија, третман канала корена зуба или локална иригациј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 друге стране, теже инфекције као што су перикоронитис, латерални периодонтални апсцес и фацијални целулитис треба лечити и антибиотицима и хирурш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к избора за инфекције зуба и усне дупље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500 мг на 8 сати, орално. Код пацијената који су скоро примали антибиотике боље је дати амоксицилин са клавуланском киселин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лек избора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индамиц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150 до 450 мг на 6 сати орално) ил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метронидаз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00 мг на 8 сати. Ако пацијент има улцерозни гингивитис, перикоронитис или периодонтални апсцес, боље је применити метронидазол 250 мг на 8 с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Амоксицилин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48080" y="2637000"/>
            <a:ext cx="40478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те масти су житки лековити препарати за спољну употреб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гу се наносити на кожу, слузокоже или површне ране (опекотине, огреботине и сличн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Главни лек је помешан са подлогом (растворен, емулгован или суспендован) која је хидрофобна и под прстима даје исти осећај као да се додирује свињска ма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8572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асти се најчешће примењују ради локалног дејства главног л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еђутим, понекад се главни лек из масти апсорбује кроз кожу и испољава дејство другде у организму. Услов да би се то догод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 јесте да главни лек буде довољно липосолубилан. Нитроглицерол, лек из групе нитрата који служи за лечење напада ангине пекторис, се може применити у виду масти јер се добро апсорбује кроз кож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Comic Sans MS"/>
              </a:rPr>
              <a:t>Антибио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07180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ци су хемијска једињења која стварају живи организми и која могу у малим концентрацијама да заустављају животне процесе микроорганизама (бактерија, рикеција, хламидија, гљивица, протозоа и вир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и се деле 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оста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спречавају раст бактерија, али их не уништавају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ци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убијају бактер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Масне подлог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Свињска маст (adeps suil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Жути восак (cera fla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осак (cera alb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Ворвањ (cetaceum, spermacet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Ланолин (cera lanae, adeps lanae, lanolin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налк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lanalc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шавина стерола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алифатичних алкохо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ути вазел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vaselinum flav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азелин (vaselinum alb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Полиетиленглико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чни параф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paraffinum liquid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етостеар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cetostear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ма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2339640"/>
            <a:ext cx="89298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borici                          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albi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 1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Споља, намазати оболела места три пута 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Маст са борном киселином има 3g борне кисели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7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г вазелина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па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250640"/>
            <a:ext cx="88581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на од најчешће употребљаваних пасти је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асаров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та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ssar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се употребљава као адстригенс и благи кератолитик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став ове пасте је следећ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acidum salicylicum 2g, zinci oxydum 24g, talcum 24g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selinum flavum 50g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 је можемо прописати као магистрални лековити препарат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nci oxydi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salicylici                          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ci          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flavi                           5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ља, два пута дневно намазати оболела мес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Групе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ета-ла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лорамфеник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ликопепт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иногликоз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лфонамид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ронидаз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Бактерициди и бактериоста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1428840"/>
          <a:ext cx="7286400" cy="4779720"/>
        </p:xfrm>
        <a:graphic>
          <a:graphicData uri="http://schemas.openxmlformats.org/drawingml/2006/table">
            <a:tbl>
              <a:tblPr/>
              <a:tblGrid>
                <a:gridCol w="4064040"/>
                <a:gridCol w="3222360"/>
              </a:tblGrid>
              <a:tr h="51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Ц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ОСТА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ниске концентрациј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ипе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високе концентрациј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мбинација триметоприм- сулфаметокса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инда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1928880"/>
            <a:ext cx="8358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Антибиотике не треба примењ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колико нис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пход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Пре отпочињања примене антибиотика на основ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иничке дијагнозе увек треба узе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зорк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ноја, ексудата или инфицираних ткив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ати их у микробиолошку лабораториј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Лек треба примењивати 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вољној доз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Једном започету терапи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е треба мењати бар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е истека 3 д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лико је потребно да б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очили први ефекти лечењ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1857240"/>
            <a:ext cx="84297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Примену антибиотика треба да пр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енаж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гнојн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екција, ексцизија девитализова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кива и отклањање страних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Када дође до клиничког излечења, терапију тре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вити још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бар три да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спречи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ид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Контраиндикована је истовремена 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г и бактериостатског антибиотик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р бактерицидни антибиотици делују само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је које се деле, а бактериостатици баш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ечавају деобу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тичка примена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20718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идеја код профилактичке примене антибиотика је да се постигне бактерицидна концентрација антибиотика у крви болесника у тренутку када се очекује продор бактерија у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зложене тако високој концентрацији антибиотика, релативно малобројне бактерије које су продрле у ткива неће моћи тамо и да се од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са код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руршких интервен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реуматске грозни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 вађења зуба или чишћења каменца код особа које су прележале ендокардити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ле спленектом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укућана туберкулозног болес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9:57:46Z</dcterms:modified>
  <cp:revision>154</cp:revision>
  <dc:subject/>
  <dc:title>Slide 1</dc:title>
</cp:coreProperties>
</file>