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8603-BF0C-47F6-A3D3-F65473010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606D-D671-487F-85AF-4E037EFD9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352-9C20-448C-9273-43F80A16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27E-1389-42FB-9AD7-E0852A5A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DE0-491F-4F7F-B1B4-C093822A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FB3D-AB23-44EC-A77A-D0108E10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59F-85E1-4448-8FDE-11E4A848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7F4-F2A7-42FB-82AC-89259962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7A3-4343-49B6-B032-061198BB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8BF3-9D19-4F41-9EC2-AD988A96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2ED-2C73-4BB5-8BD4-40E31A23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905-F8C2-4E8C-9058-DE772104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DF3-6A8E-4048-8A88-B96FF555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C12-7030-43B5-9C41-D5EF07ED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DECB-E273-45F6-8A36-074C508B4B88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7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00000"/>
                </a:solidFill>
                <a:latin typeface="Comic Sans MS"/>
              </a:rPr>
              <a:t>Бета-лактамски антибиотиц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 бета-лактамске антибиотике спадају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ницилин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цефалоспорин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онобактами 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рбипене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00000"/>
                </a:solidFill>
                <a:latin typeface="Comic Sans MS"/>
              </a:rPr>
              <a:t>Пеницилин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1"/>
          <p:cNvGraphicFramePr/>
          <p:nvPr/>
        </p:nvGraphicFramePr>
        <p:xfrm>
          <a:off x="1214280" y="1785960"/>
          <a:ext cx="6897960" cy="45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785960"/>
                    <a:ext cx="689796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одела пеници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риродни пеницилини Г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бензилпеницилин) и В (феноксиметилпеницилин). Они су јако активни против грам-позитивних и грам-негативних кока, али их бета-лактамаза лако разлаж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еницилиназа-резистентни пеницилини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нафцилин, оксацилин, клоксацилин, диклоксацилин). Они имају мању јачину дејства од прве групе, али делују и на резистентне сојев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еницилини са широким спектром дејства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ампицилин, амоксицилин, бакампицилин). Они делују и на грам-негативне бактерије, али их пеницилиназа инактивир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Пеницилини са проширеним спектром дејства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карбеницилин, тикарцилин, азлоцилин, мезлоцилин, пиперацилин). Они делују и на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Pseudomonas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Proteus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Enterobacter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Klebsiella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-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епарати пеници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57120" y="1500120"/>
          <a:ext cx="8358120" cy="4581720"/>
        </p:xfrm>
        <a:graphic>
          <a:graphicData uri="http://schemas.openxmlformats.org/drawingml/2006/table">
            <a:tbl>
              <a:tblPr/>
              <a:tblGrid>
                <a:gridCol w="2500560"/>
                <a:gridCol w="2428560"/>
                <a:gridCol w="3429000"/>
              </a:tblGrid>
              <a:tr h="608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РАЛНА ДО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АРЕНТЕРАЛНА ДО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ницилин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- 20.000.000 ИЈ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рокаин- пеницилин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00.000 ИЈ/12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часов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и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Бензатин- пеницилин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.200.000 ИЈ и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ницилин 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0 мг/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Окс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0 мг/6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,5 г/6 часова и.в., и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локс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50- 500 м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Диклокс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50 м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Наф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г/6 часова и. м., и. 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пи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00 мг- 1г/6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6- 12 г (подељено у четири дозе) и.м. и.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окси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50- 500 мг/8 час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арбени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 г/6 часова и.м.,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икар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00- 300 мг/кг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зло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 г/6 часова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ипераци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 г/6 часова и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Нежељена дејства пенцили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Најчешће нежељено дејство је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алергија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н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еницилине. Она може бити по било ком од 4 тип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лергијских реакција, али је најчешћи први тип,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нафилактичка реакциј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Ампицилин у 5% болесника изазива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макулопапуларни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раш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који не представља алергијску реакцију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нтратекална примена пеницилина ј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онтраиндикована јер у већим концентрацијам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зазива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конвулзиј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делује као антагонист глицина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и ГАБА-е)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550"/>
              </a:spcBef>
              <a:buClr>
                <a:srgbClr val="c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од примене већих доза пеницилина Г интравенск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могућа је појава 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хипернатремиј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c00000"/>
                </a:solidFill>
                <a:latin typeface="Comic Sans MS"/>
              </a:rPr>
              <a:t>хиперкалемиј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зависно од тога да ли је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примењени препарат у виду соли натријума или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калијума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4200" y="2143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БЕЗБЕДИТИ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РОХОДНОСТ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ДИСАЈНИХ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УТЕ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А ПОСТАВИТИ У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ЛЕЖЕЋ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ПОЛОЖАЈ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 ПОДИЋИ НОГ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АКО ЈЕ БЕЗ СВЕСТИ ИЛИ ПОВРАЋА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НДА Г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РЕБА ПОСТАВИТИ У „КОМ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ЛОЖАЈ“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Comic Sans MS"/>
              </a:rPr>
              <a:t>ИНТРАМУСКУЛАРНА ИЊЕКЦИЈА НЕРАЗБЛАЖЕНОГ </a:t>
            </a:r>
            <a:r>
              <a:rPr b="1" lang="sr-CS" sz="2000" spc="-1" strike="noStrike" u="sng">
                <a:solidFill>
                  <a:srgbClr val="c00000"/>
                </a:solidFill>
                <a:uFillTx/>
                <a:latin typeface="Comic Sans MS"/>
              </a:rPr>
              <a:t>АДРЕНАЛИНА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1:1000, тј. 1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ОДРАСЛИ И ДЕЦА СТАРИЈА ОД 12 ГОДИНА: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0,2 ДО 0,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0,2 ДО 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ЕЦА МЛАЂА ОД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ГОДИН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0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1 ml/k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0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01 mg/kg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 МАКСИМАЛНО 0,3 ml (0,3 mg)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КОД ДЕЦЕ ОД 6 ДО 12 ГОДИНА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 ДО МАКСИМАЛНО 0,15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l (0,15 mg)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КОД ДЕЦЕ МЛАЂЕ ОД 6 ГОДИ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ЊЕКЦИЈА АДРЕНАЛИНА СЕ МОЖЕ ПОНАВЉАТИ НА ОКО 10 МИНУТА, У ЗАВИСНОСТИ ОД КРВНОГ ПРИТИСКА, ПУЛСА И ДИСАЊА ПАЦИЈЕН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1500120"/>
            <a:ext cx="878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00000"/>
                </a:solidFill>
                <a:latin typeface="Comic Sans MS"/>
              </a:rPr>
              <a:t>АДРЕНАЛИН ИНТРАВЕНСКИ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ПРИМЕНИТИ САМО АКО НИЈЕ МОГУЋА ИНТРАМУСКУЛАРНА ПРИМЕНА, АКО ПОСТОЈЕ УСЛОВИ ДА СЕ ПАЦИЈЕНТ МОЖЕ ПАЖЉИВО ПРАТИТИ И АКО ЈЕ ОСОБА КОЈА ПРИМЕЊУЈЕ АДРЕНАЛИН ИСКУСН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АДРЕНАЛИН ЗА ИНТРАВЕНСКУ ПРИМЕНУ </a:t>
            </a:r>
            <a:r>
              <a:rPr b="1" lang="sr-CS" sz="1800" spc="-1" strike="noStrike">
                <a:solidFill>
                  <a:srgbClr val="c00000"/>
                </a:solidFill>
                <a:latin typeface="Comic Sans MS"/>
              </a:rPr>
              <a:t>МОРА БИТИ РАЗБЛАЖЕН 1:10,000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. ДОЗЕ АДРЕНАЛИНА ИНТРАВЕНСКИ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ОДРАСЛИ:  0,5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l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РАЗБЛАЖЕНОГ РАСТВОРА АДРЕНАЛИНА (1:10,000), ШТО ИЗНОСИ 0,05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 АДРЕНАЛИНА; ДАТИ КАО СПОРУ ИНТРАВЕНСКУ ИЊЕКЦИЈУ, И ПОНАВЉАТИ НА 5 МИНУТА ПРЕМА ОДГОВОРУ КРВНОГ ПРИТИСКА, ПУЛСА И ДИСАЊА ПАЦИЈЕНТ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ДЕЦА: 0,01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g 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РАЗБЛАЖЕНОГ РАСТВОРА АДРЕНАЛИНА (1:10,000), ШТО ИЗНОСИ 0,001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g</a:t>
            </a:r>
            <a:r>
              <a:rPr b="0" lang="sr-CS" sz="1800" spc="-1" strike="noStrike">
                <a:solidFill>
                  <a:srgbClr val="000000"/>
                </a:solidFill>
                <a:latin typeface="Comic Sans MS"/>
              </a:rPr>
              <a:t> АДРЕНАЛИНА; ДАТИ КАО СПОРУ ИНТРАВЕНСКУ ИЊЕКЦИЈУ, И ПОНАВЉАТИ НА 5 МИНУТА ПРЕМА ОДГОВОРУ КРВНОГ ПРИТИСКА, ПУЛСА И ДИСАЊА ПАЦИЈЕНТ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НИТИ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КИСЕОНИК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РЕКО МАСК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ЛИ НАЗАЛНОГ КАТЕТЕР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28% КИСЕОНИ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4-8 ЛИТАРА У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ИНУТИ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ФИЗИОЛОШКИ РАСТВОР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НИТ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РАВЕНСКИ, 5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l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ДРАСЛИМ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МА, А 2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l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g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Ц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ЛОРОПИРАМИН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NOPEN®)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МЕНИТИ ИНТРАМУСКУЛАРНО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-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2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ОДРАСЛИМ ПАЦИЈЕНТИМА, ДЕЦИ ОД 6-12  ГОДИНА 5-1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ЦИ ОД 1 - 5 ГОДИНА 2,5-5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ЦИ ИСПОД 1 ГОДИНЕ СТАРОСТИ ТРЕБА ДАТИ 250 МИКРОГРАМА ПО КИЛОГРАМУ ТЕЛЕСНЕ ТЕЖИ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ЧЕЊЕ АНАФИЛАКТИЧКЕ РЕАКЦИЈ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ИДРОКОРТИЗО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ХИДРОКОРТИЗОН®) ПРИМЕНИТИ ИНТРАМУСКУЛАРНО ИЛИ СПОРО ИНТРАВЕНС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ОДРАСЛИ И ДЕЦА СТАРИЈА ОД 12 ГОДИНА, 2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ДЕЦА ОД 6 ДО 12 ГОДИНА, 1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ДЕЦА ОД 6 МЕСЕЦИ ДО 6 ГОДИНА, 5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- ДЕЦА МЛАЂА ОД 6 МЕСЕЦИ, 2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БИОТИЦИ ДЕЛОТВОРНИ ПРОТИВ ИНФЕКЦИЈА ЗУБА И УСНЕ ДУП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3840" y="20718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Wingdings 2"/>
                <a:ea typeface="Wingdings 2"/>
              </a:rPr>
              <a:t>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атегорије пацијената којима пре инвазивних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ервенција у стоматологији треба да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нтибиотиску профилаксу су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раније прележали инфективни бактеријски ендокардитис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са вештачким валвулама на срцу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еуматско обољење срца у прошлост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са урођеним аномалијама на срцу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85480" y="1714680"/>
            <a:ext cx="8643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лапс митралне валвуле са митралн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суфицијенцијом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исуство интравенских или интраартеријски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атетер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у имуносупресији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ацијенти са вентрикуло-перитонеалним ил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ентрикуло-атријалним шантом због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дроцефалус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MS Mincho"/>
              <a:buChar char="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 још неке категориј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42876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БИОТИЦИ ДЕЛОТВОРНИ ПРОТИВ ИНФЕКЦИЈА ЗУБА И УСНЕ ДУПЉ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НТИБИОТИЦИ ДЕЛОТВОРНИ ПРОТИВ ИНФЕКЦИЈА ЗУБА И УСНЕ ДУПЉ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Wingdings 2"/>
                <a:ea typeface="Wingdings 2"/>
              </a:rPr>
              <a:t>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тандардно у профилакси треба дати одраслом пацијенту 2 грама </a:t>
            </a:r>
            <a:r>
              <a:rPr b="0" lang="sr-CS" sz="2800" spc="-1" strike="noStrike">
                <a:solidFill>
                  <a:srgbClr val="c00000"/>
                </a:solidFill>
                <a:latin typeface="Comic Sans MS"/>
              </a:rPr>
              <a:t>амоксицилин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рално (деца 50 мг/кг) један сат пре операциј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ко је пацијент алергичан на пеницилин, треба дати клиндамицин 600 мг орално (деца 20 мг/кг) један сат пре операције, или азитромицин 500 мг (деца 15 мг/кг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Када дати антибиотик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ке денталне инфекције (пулпитис, периапикални периодонтитис, локализовани дентоалвеоларни апсцес, гингивитис изазван плаком) не треба лечити антибиотицима, већ интервенцијама као што је инцизија, третман канала корена зуба или локална иригациј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 друге стране, теже инфекције као што су перикоронитис, латерални периодонтални апсцес и фацијални целулитис треба лечити и антибиотицима и хируршк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Избор антибиотик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биотик избора за инфекције зуба и усне дупље ј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моксицил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500 мг на 8 сати, орално. Код пацијената који су скоро примали антибиотике боље је дати амоксицилин са клавуланском киселино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је пацијент алергичан на пеницилин, лек избора је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линдамиц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150 до 450 мг на 6 сати орално) или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метронидазол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200 мг на 8 сати. Ако пацијент има улцерозни гингивитис, перикоронитис или периодонтални апсцес, боље је применити метронидазол 250 мг на 8 са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Амоксицилин – структурна форму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548080" y="2637000"/>
            <a:ext cx="40478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КОВИТЕ МАСТ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Unguent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ековите масти су житки лековити препарати за спољну употреб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огу се наносити на кожу, слузокоже или површне ране (опекотине, огреботине и слично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Главни лек је помешан са подлогом (растворен, емулгован или суспендован) која је хидрофобна и под прстима даје исти осећај као да се додирује свињска мас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ЛЕКОВИТЕ МАСТИ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(Unguent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185724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асти се најчешће примењују ради локалног дејства главног лек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еђутим, понекад се главни лек из масти апсорбује кроз кожу и испољава дејство другде у организму. Услов да би се то догод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 јесте да главни лек буде довољно липосолубилан. Нитроглицерол, лек из групе нитрата који служи за лечење напада ангине пекторис, се може применити у виду масти јер се добро апсорбује кроз кож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00000"/>
                </a:solidFill>
                <a:latin typeface="Comic Sans MS"/>
              </a:rPr>
              <a:t>Антибиотиц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00040" y="2071800"/>
            <a:ext cx="83581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биотици су хемијска једињења која стварају живи организми и која могу у малим концентрацијама да заустављају животне процесе микроорганизама (бактерија, рикеција, хламидија, гљивица, протозоа и вирус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ни се деле н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бактериостатик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антибиотици који спречавају раст бактерија, али их не уништавају)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бактерицид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антибиотици који убијају бактериј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Масне подлог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Свињска маст (adeps suilu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pt-BR" sz="2400" spc="-1" strike="noStrike">
                <a:solidFill>
                  <a:srgbClr val="000000"/>
                </a:solidFill>
                <a:latin typeface="Comic Sans MS"/>
              </a:rPr>
              <a:t>Жути восак (cera flav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Бели восак (cera alb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Ворвањ (cetaceum, spermacet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Ланолин (cera lanae, adeps lanae, lanolin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аналкол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lanalcol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ешавина стерола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алифатичних алкохол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Жути вазелин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vaselinum flav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Бели вазелин (vaselinum alb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Полиетиленгликол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0.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ечни парафин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paraffinum liquidu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1.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Цетостеарол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(cetostearolum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Прописивање ма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4200" y="2339640"/>
            <a:ext cx="892980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i borici                               3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selini albi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d  10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sce fiat ungu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 ad scatu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. Споља, намазати оболела места три пута дне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* Маст са борном киселином има 3g борне кисели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H</a:t>
            </a:r>
            <a:r>
              <a:rPr b="0" lang="sv-SE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3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</a:t>
            </a:r>
            <a:r>
              <a:rPr b="0" lang="sv-SE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97g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елог вазелина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Прописивање пас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285840" y="1250640"/>
            <a:ext cx="88581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Једна од најчешће употребљаваних пасти је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асарова</a:t>
            </a:r>
            <a:r>
              <a:rPr b="1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аста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Lassar)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ја се употребљава као адстригенс и благи кератолитик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став ове пасте је следећи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acidum salicylicum 2g, zinci oxydum 24g, talcum 24g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vaselinum flavum 50g) 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а је можемо прописати као магистрални лековити препарат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Zinci oxydi                             24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di salicylici                          2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lci                                       24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selini flavi                           5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sce fiat ungu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 ad scatu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оља, два пута дневно намазати оболела мес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Групе антибиоти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ета-лактам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етрацикли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акроли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лорамфенико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нолон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ликопепти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миногликозид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лфонамиди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инезол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етронидазо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Бактерициди и бактериостатиц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5880" y="1428840"/>
          <a:ext cx="7286400" cy="4779720"/>
        </p:xfrm>
        <a:graphic>
          <a:graphicData uri="http://schemas.openxmlformats.org/drawingml/2006/table">
            <a:tbl>
              <a:tblPr/>
              <a:tblGrid>
                <a:gridCol w="4064040"/>
                <a:gridCol w="3222360"/>
              </a:tblGrid>
              <a:tr h="515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БАКТЕРИЦ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Comic Sans MS"/>
                          <a:ea typeface="Times New Roman"/>
                        </a:rPr>
                        <a:t>БАКТЕРИОСТАТ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Пеници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Тетрацик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Цефалоспор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ритромиц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ниске концентрациј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Имипен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пектин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Аминогликоз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Линк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5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Еритромиц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високе концентрације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омбинација триметоприм- сулфаметоксазо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Клинда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Ванк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Сулфонам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инол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Хлорамфеник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нцип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и 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мене антибиотика у стоматолошкој пракс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357120" y="1928880"/>
            <a:ext cx="83581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Антибиотике не треба примењив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уколико нису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опход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Пре отпочињања примене антибиотика на основ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линичке дијагнозе увек треба узе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узорке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ноја, ексудата или инфицираних ткива 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лати их у микробиолошку лабораториј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Лек треба примењивати у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овољној доз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Једном започету терапију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не треба мењати бар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пре истека 3 дан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колико је потребно да би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очили први ефекти лечењ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нцип</a:t>
            </a: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и п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имене антибиотика у стоматолошкој пракс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00040" y="1857240"/>
            <a:ext cx="84297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Примену антибиотика треба да прат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ренаж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гнојних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лекција, ексцизија девитализовани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кива и отклањање страних те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. Када дође до клиничког излечења, терапију треб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ставити још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бар три да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 би се спречи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иди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. Контраиндикована је истовремена приме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актерицидног и бактериостатског антибиотика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р бактерицидни антибиотици делују само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актерије које се деле, а бактериостатици баш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речавају деобу бактер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офилактичка примена антибиотик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14240" y="207180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сновна идеја код профилактичке примене антибиотика је да се постигне бактерицидна концентрација антибиотика у крви болесника у тренутку када се очекује продор бактерија у тки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зложене тако високој концентрацији антибиотика, релативно малобројне бактерије које су продрле у ткива неће моћи тамо и да се одр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офилакса код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ируршких интервенциј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д реуматске грозниц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е вађења зуба или чишћења каменца код особа које су прележале ендокардити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сле спленектоми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д укућана туберкулозног болесни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4-07-12T09:57:46Z</dcterms:modified>
  <cp:revision>154</cp:revision>
  <dc:subject/>
  <dc:title>Slide 1</dc:title>
</cp:coreProperties>
</file>