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EA2A-DB9F-4EA1-BA45-C9FF176EC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E879-11E3-4D0B-A076-D5A62172A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E24-6246-4348-826E-A53DF771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7D3-F777-40D4-8958-0ECAD740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B93-1695-46DE-8FD2-DE1F3E5D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129-04AF-49DB-867D-DA03AD5F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B54-F6C0-40B8-B682-BA68FDA9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BFA-269B-4B8A-B03E-3DDDB62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EEA-6518-4024-8017-198233FC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69E-430E-4C6B-BEEE-D9ADBAF7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C71-8FDF-4D59-95F6-0A120C99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001-E1D0-40E6-8024-74BC0ED7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FAB-1671-47EF-AC3E-233DBA9A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E82-C658-488F-8FEA-5D855288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4E4A-4973-4B64-91A2-3FF105E63F59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7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omic Sans MS"/>
              </a:rPr>
              <a:t>Бета-лактамски антибиотиц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бета-лактамске антибиотике спадају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ницилин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фалоспорин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нобактами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рбипене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omic Sans MS"/>
              </a:rPr>
              <a:t>Пеницилин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1"/>
          <p:cNvGraphicFramePr/>
          <p:nvPr/>
        </p:nvGraphicFramePr>
        <p:xfrm>
          <a:off x="1214280" y="1785960"/>
          <a:ext cx="689796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785960"/>
                    <a:ext cx="689796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одела пени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риродни пеницилини Г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бензилпеницилин) и В (феноксиметилпеницилин). Они су јако активни против грам-позитивних и грам-негативних кока, али их бета-лактамаза лако разлаж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аза-резистентни пеницилини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нафцилин, оксацилин, клоксацилин, диклоксацилин). Они имају мању јачину дејства од прве групе, али делују и на резистентне сојев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и са широким спектром дејств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ампицилин, амоксицилин, бакампицилин). Они делују и на грам-негативне бактерије, али их пеницилиназа инактиви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и са проширеним спектром дејств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карбеницилин, тикарцилин, азлоцилин, мезлоцилин, пиперацилин). Они делују и на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roteus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Enterobacter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Klebsiella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-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епарати пени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7120" y="1500120"/>
          <a:ext cx="8358120" cy="4581720"/>
        </p:xfrm>
        <a:graphic>
          <a:graphicData uri="http://schemas.openxmlformats.org/drawingml/2006/table">
            <a:tbl>
              <a:tblPr/>
              <a:tblGrid>
                <a:gridCol w="2500560"/>
                <a:gridCol w="2428560"/>
                <a:gridCol w="3429000"/>
              </a:tblGrid>
              <a:tr h="608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РАЛНА Д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АРЕНТЕРАЛНА Д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- 20.000.000 ИЈ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каин- 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0.000 ИЈ/1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нзатин- 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00.000 ИЈ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/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/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,5 г/6 часова и.в.,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л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- 500 м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кл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 м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ф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г/6 часова и. м., и.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п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- 1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- 12 г (подељено у четири дозе) и.м. и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окс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- 500 мг/8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арбен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 г/6 часова и.м.,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икар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0- 300 мг/кг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ло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г/6 час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ипер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г/6 час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жељена дејства пен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Најчешће нежељено дејство је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алергија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н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еницилине. Она може бити по било ком од 4 тип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лергијских реакција, али је најчешћи први тип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нафилактичка реакциј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мпицилин у 5% болесника изази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макулопапуларн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раш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који не представља алергијску реакцију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нтратекална примена пеницилина ј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нтраиндикована јер у већим концентрацијам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зази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конвулз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делује као антагонист глицин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 ГАБА-е)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д примене већих доза пеницилина Г интравенск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могућа је поја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хипернатрем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хиперкалем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зависно од тога да ли ј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римењени препарат у виду соли натријума ил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алијум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2143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БЕЗБЕДИТ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РОХОДНОСТ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ДИСАЈНИХ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УТ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А ПОСТАВИТИ У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ЛЕЖЕЋ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ОЛОЖАЈ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ПОДИЋИ НОГ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АКО ЈЕ БЕЗ СВЕСТИ ИЛИ ПОВРАЋА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ДА Г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РЕБА ПОСТАВИТИ У „КОМ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ЛОЖАЈ“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ИНТРАМУСКУЛАРНА ИЊЕКЦИЈА НЕРАЗБЛАЖЕНОГ </a:t>
            </a:r>
            <a:r>
              <a:rPr b="1" lang="sr-CS" sz="2000" spc="-1" strike="noStrike" u="sng">
                <a:solidFill>
                  <a:srgbClr val="c00000"/>
                </a:solidFill>
                <a:uFillTx/>
                <a:latin typeface="Comic Sans MS"/>
              </a:rPr>
              <a:t>АДРЕНАЛИН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1:1000, тј.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ДРАСЛИ И ДЕЦА СТАРИЈА ОД 12 ГОДИНА: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0,2 ДО 0,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0,2 ДО 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ЦА МЛАЂА ОД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ГОДИН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0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 ml/k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0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 mg/k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 МАКСИМАЛНО 0,3 ml (0,3 mg)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КОД ДЕЦЕ ОД 6 ДО 12 ГОДИН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 ДО МАКСИМАЛНО 0,1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 (0,15 mg)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КОД ДЕЦЕ МЛАЂЕ ОД 6 ГОД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ЊЕКЦИЈА АДРЕНАЛИНА СЕ МОЖЕ ПОНАВЉАТИ НА ОКО 10 МИНУТА, У ЗАВИСНОСТИ ОД КРВНОГ ПРИТИСКА, ПУЛСА И ДИСАЊА ПАЦИЈЕН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150012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00000"/>
                </a:solidFill>
                <a:latin typeface="Comic Sans MS"/>
              </a:rPr>
              <a:t>АДРЕНАЛИН ИНТРАВЕНСКИ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ПРИМЕНИТИ САМО АКО НИЈЕ МОГУЋА ИНТРАМУСКУЛАРНА ПРИМЕНА, АКО ПОСТОЈЕ УСЛОВИ ДА СЕ ПАЦИЈЕНТ МОЖЕ ПАЖЉИВО ПРАТИТИ И АКО ЈЕ ОСОБА КОЈА ПРИМЕЊУЈЕ АДРЕНАЛИН ИСКУСН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АДРЕНАЛИН ЗА ИНТРАВЕНСКУ ПРИМЕНУ </a:t>
            </a:r>
            <a:r>
              <a:rPr b="1" lang="sr-CS" sz="1800" spc="-1" strike="noStrike">
                <a:solidFill>
                  <a:srgbClr val="c00000"/>
                </a:solidFill>
                <a:latin typeface="Comic Sans MS"/>
              </a:rPr>
              <a:t>МОРА БИТИ РАЗБЛАЖЕН 1:10,000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. ДОЗЕ АДРЕНАЛИНА ИНТРАВЕНСК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ОДРАСЛИ:  0,5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АЗБЛАЖЕНОГ РАСТВОРА АДРЕНАЛИНА (1:10,000), ШТО ИЗНОСИ 0,05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АДРЕНАЛИНА; ДАТИ КАО СПОРУ ИНТРАВЕНСКУ ИЊЕКЦИЈУ, И ПОНАВЉАТИ НА 5 МИНУТА ПРЕМА ОДГОВОРУ КРВНОГ ПРИТИСКА, ПУЛСА И ДИСАЊА ПАЦИЈЕН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ДЕЦА: 0,0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АЗБЛАЖЕНОГ РАСТВОРА АДРЕНАЛИНА (1:10,000), ШТО ИЗНОСИ 0,00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АДРЕНАЛИНА; ДАТИ КАО СПОРУ ИНТРАВЕНСКУ ИЊЕКЦИЈУ, И ПОНАВЉАТИ НА 5 МИНУТА ПРЕМА ОДГОВОРУ КРВНОГ ПРИТИСКА, ПУЛСА И ДИСАЊА ПАЦИЈЕНТ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КИСЕОНИК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РЕКО МАСК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ЛИ НАЗАЛНОГ КАТЕТЕР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28% КИСЕОНИ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4-8 ЛИТАРА 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НУТ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ИЗИОЛОШКИ РАСТВОР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РАВЕНСКИ, 5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РАСЛИ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МА, А 2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ЛОРОПИРАМИН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PEN®)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ИНТРАМУСКУЛАРНО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-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2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ОДРАСЛИМ ПАЦИЈЕНТИМА, ДЕЦИ ОД 6-12  ГОДИНА 5-1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 ОД 1 - 5 ГОДИНА 2,5-5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 ИСПОД 1 ГОДИНЕ СТАРОСТИ ТРЕБА ДАТИ 250 МИКРОГРАМА ПО КИЛОГРАМУ ТЕЛЕСНЕ ТЕЖИ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ИДРОКОРТИЗО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ХИДРОКОРТИЗОН®) ПРИМЕНИТИ ИНТРАМУСКУЛАРНО ИЛИ СПОРО ИНТРАВЕН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ОДРАСЛИ И ДЕЦА СТАРИЈА ОД 12 ГОДИНА, 2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ОД 6 ДО 12 ГОДИНА, 1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ОД 6 МЕСЕЦИ ДО 6 ГОДИНА, 5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МЛАЂА ОД 6 МЕСЕЦИ, 2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20718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Wingdings 2"/>
                <a:ea typeface="Wingdings 2"/>
              </a:rPr>
              <a:t>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тегорије пацијената којима пре инвазивних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рвенција у стоматологији треба д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нтибиотиску профилаксу с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раније прележали инфективни бактеријски ендокардитис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вештачким валвулама на срц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уматско обољење срца у прошлост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урођеним аномалијама на срц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480" y="1714680"/>
            <a:ext cx="864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лапс митралне валвуле са митралн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суфицијенцијо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суство интравенских или интраартеријски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тетер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у имуносупресиј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вентрикуло-перитонеалним и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нтрикуло-атријалним шантом због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дроцефалус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 још неке категориј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4287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Wingdings 2"/>
                <a:ea typeface="Wingdings 2"/>
              </a:rPr>
              <a:t>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тандардно у профилакси треба дати одраслом пацијенту 2 грама 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амоксицилин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рално (деца 50 мг/кг) један сат пре операциј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ко је пацијент алергичан на пеницилин, треба дати клиндамицин 600 мг орално (деца 20 мг/кг) један сат пре операције, или азитромицин 500 мг (деца 15 мг/кг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Када дати антибиотик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ке денталне инфекције (пулпитис, периапикални периодонтитис, локализовани дентоалвеоларни апсцес, гингивитис изазван плаком) не треба лечити антибиотицима, већ интервенцијама као што је инцизија, третман канала корена зуба или локална иригациј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 друге стране, теже инфекције као што су перикоронитис, латерални периодонтални апсцес и фацијални целулитис треба лечити и антибиотицима и хирурш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Избор антибио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биотик избора за инфекције зуба и усне дупље ј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моксицил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500 мг на 8 сати, орално. Код пацијената који су скоро примали антибиотике боље је дати амоксицилин са клавуланском киселин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је пацијент алергичан на пеницилин, лек избора ј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линдамиц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150 до 450 мг на 6 сати орално) ил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метронидазол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200 мг на 8 сати. Ако пацијент има улцерозни гингивитис, перикоронитис или периодонтални апсцес, боље је применити метронидазол 250 мг на 8 са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Амоксицилин – структурна форму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48080" y="2637000"/>
            <a:ext cx="40478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КОВИТЕ МАСТ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Unguent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те масти су житки лековити препарати за спољну употреб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огу се наносити на кожу, слузокоже или површне ране (опекотине, огреботине и слично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Главни лек је помешан са подлогом (растворен, емулгован или суспендован) која је хидрофобна и под прстима даје исти осећај као да се додирује свињска мас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КОВИТЕ МАСТ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Unguent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85724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асти се најчешће примењују ради локалног дејства главног лек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еђутим, понекад се главни лек из масти апсорбује кроз кожу и испољава дејство другде у организму. Услов да би се то догод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 јесте да главни лек буде довољно липосолубилан. Нитроглицерол, лек из групе нитрата који служи за лечење напада ангине пекторис, се може применити у виду масти јер се добро апсорбује кроз кож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00000"/>
                </a:solidFill>
                <a:latin typeface="Comic Sans MS"/>
              </a:rPr>
              <a:t>Антибиот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00040" y="2071800"/>
            <a:ext cx="83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биотици су хемијска једињења која стварају живи организми и која могу у малим концентрацијама да заустављају животне процесе микроорганизама (бактерија, рикеција, хламидија, гљивица, протозоа и вирус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ни се деле н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актериостатик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нтибиотици који спречавају раст бактерија, али их не уништавају)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актерицид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нтибиотици који убијају бактериј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Масне подлог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Свињска маст (adeps suil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Жути восак (cera flav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Бели восак (cera alb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Ворвањ (cetaceum, spermacet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Ланолин (cera lanae, adeps lanae, lanolin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аналкол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lanalcol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шавина стерола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алифатичних алкохол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Жути вазелин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vaselinum flav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Бели вазелин (vaselinum alb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Полиетиленглико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ечни парафин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paraffinum liquidu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Цетостеарол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cetostearol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рописивање ма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2339640"/>
            <a:ext cx="892980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i borici                          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selini albi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  1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 fiat ungu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ad scat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 Споља, намазати оболела места три пута 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 Маст са борном киселином има 3g борне кисели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</a:t>
            </a:r>
            <a:r>
              <a:rPr b="0" lang="sv-SE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</a:t>
            </a:r>
            <a:r>
              <a:rPr b="0" lang="sv-SE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7g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лог вазелина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рописивање пас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285840" y="1250640"/>
            <a:ext cx="88581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на од најчешће употребљаваних пасти је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асарова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аста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Lassar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ја се употребљава као адстригенс и благи кератолитик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став ове пасте је следећи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acidum salicylicum 2g, zinci oxydum 24g, talcum 24g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selinum flavum 50g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 је можемо прописати као магистрални лековити препарат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inci oxydi                             2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i salicylici                          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lci                                       2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selini flavi                           5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 fiat ungu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ad scat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ља, два пута дневно намазати оболела мес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Групе антибио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ета-лакт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етрацикли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акрол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лорамфеник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ноло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ликопепт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миногликоз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лфонамид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незол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тронидаз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Бактерициди и бактериостатиц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1428840"/>
          <a:ext cx="7286400" cy="4779720"/>
        </p:xfrm>
        <a:graphic>
          <a:graphicData uri="http://schemas.openxmlformats.org/drawingml/2006/table">
            <a:tbl>
              <a:tblPr/>
              <a:tblGrid>
                <a:gridCol w="4064040"/>
                <a:gridCol w="3222360"/>
              </a:tblGrid>
              <a:tr h="51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БАКТЕРИЦ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БАКТЕРИОСТА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етрацик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Цефалоспор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ритромиц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ниске концентрациј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мипе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пектин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иногликоз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и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ритромиц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високе концентрациј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мбинација триметоприм- сулфаметоксаз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линда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а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лфонам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инол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лорамфеник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нцип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и 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мене антибиотика у стоматолошкој прак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57120" y="1928880"/>
            <a:ext cx="83581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Антибиотике не треба примењ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уколико нис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опход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Пре отпочињања примене антибиотика на основ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линичке дијагнозе увек треба узе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узорке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ноја, ексудата или инфицираних ткива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ати их у микробиолошку лабораториј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Лек треба примењивати 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вољној доз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Једном започету терапиј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не треба мењати бар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ре истека 3 да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лико је потребно да би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очили први ефекти лечењ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нцип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и 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мене антибиотика у стоматолошкој прак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00040" y="1857240"/>
            <a:ext cx="84297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Примену антибиотика треба да пр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ренаж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гнојних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екција, ексцизија девитализовани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кива и отклањање страних те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Када дође до клиничког излечења, терапију треб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ставити још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бар три да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би се спречи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иди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Контраиндикована је истовремена приме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цидног и бактериостатског антибиотика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р бактерицидни антибиотици делују само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је које се деле, а бактериостатици баш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речавају деобу бак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филактичка примена антибио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4240" y="207180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новна идеја код профилактичке примене антибиотика је да се постигне бактерицидна концентрација антибиотика у крви болесника у тренутку када се очекује продор бактерија у тк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зложене тако високој концентрацији антибиотика, релативно малобројне бактерије које су продрле у ткива неће моћи тамо и да се одр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филакса код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руршких интервенц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реуматске грозниц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е вађења зуба или чишћења каменца код особа које су прележале ендокардити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сле спленектом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укућана туберкулозног болесн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09:57:46Z</dcterms:modified>
  <cp:revision>154</cp:revision>
  <dc:subject/>
  <dc:title>Slide 1</dc:title>
</cp:coreProperties>
</file>